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34B-267D-490A-A6A2-5154CBCE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315-6C54-475D-86AF-E0CC349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620-725F-4204-923D-286CE1E7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048-57F7-4581-A67F-015927C9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F4DE-8B00-4E5C-8D9A-C33877D7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D017-43BF-4D49-8ED5-1290F451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E17-8289-4484-ACDE-B3A786E7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34F1-E33D-4BF0-9296-AB90ECFC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9028-65BD-4577-A3ED-C33E59C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0CF9-0E8F-42B5-9FDD-9C48043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030-EE45-4107-9D9C-8539552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A06-BBB3-4D94-850F-26EB9DBB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F4A5-DE59-40A5-B706-EC2C3B2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60A7-BD43-4787-82BA-DDCCE7D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9650-C63F-45CC-BF76-040A1739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B560-772D-40F6-A551-3FA34DDF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0625-F2A4-4210-AF50-316516F9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F70-C78C-4F91-99CB-B1E0658A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8ED-495E-441D-AB97-8BED9D7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B9E-3840-4BDA-964A-BBC484C6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778-9D14-4D6F-B059-911D061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061-B204-4F67-83C6-9ED9189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5A8-63AF-4828-9ED0-61CF61E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3F4-74EB-4DA0-8BD5-F3341B3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A20-81B2-4EA1-93E4-49142D23CB5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68E7-A06F-4585-914D-15F7A6F61B6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schepuzia.kaschenko.ru/index.php/&#1060;&#1072;&#1081;&#1083;:Matsa_skrijali.jpg-" TargetMode="External"/><Relationship Id="rId2" Type="http://schemas.openxmlformats.org/officeDocument/2006/relationships/hyperlink" Target="http://www.abc-people.com/shop/moses_prophet.htm" TargetMode="External"/><Relationship Id="rId3" Type="http://schemas.openxmlformats.org/officeDocument/2006/relationships/hyperlink" Target="http://www.abc-people.com/shop/moses_prophet.htm" TargetMode="External"/><Relationship Id="rId4" Type="http://schemas.openxmlformats.org/officeDocument/2006/relationships/hyperlink" Target="http://www.abc-people.com/shop/moses_prophet.htm" TargetMode="External"/><Relationship Id="rId5" Type="http://schemas.openxmlformats.org/officeDocument/2006/relationships/hyperlink" Target="http://www.abc-people.com/shop/moses_prophet.htm" TargetMode="External"/><Relationship Id="rId6" Type="http://schemas.openxmlformats.org/officeDocument/2006/relationships/hyperlink" Target="http://www.abc-people.com/shop/moses_prophet.htm" TargetMode="External"/><Relationship Id="rId7" Type="http://schemas.openxmlformats.org/officeDocument/2006/relationships/hyperlink" Target="http://www.abc-people.com/shop/moses_prophet.htm" TargetMode="External"/><Relationship Id="rId8" Type="http://schemas.openxmlformats.org/officeDocument/2006/relationships/hyperlink" Target="http://www.abc-people.com/shop/moses_prophet.ht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28814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пове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http://im2-tub.yandex.net/i?id=153807802-07"/>
          <p:cNvPicPr/>
          <p:nvPr/>
        </p:nvPicPr>
        <p:blipFill>
          <a:blip r:embed="rId1"/>
          <a:stretch/>
        </p:blipFill>
        <p:spPr>
          <a:xfrm>
            <a:off x="4002120" y="333360"/>
            <a:ext cx="207180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2160720" cy="3500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26028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5280" y="1196640"/>
            <a:ext cx="8424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Я — Господь Бог твой, да не будет у тебя других богов, кроме Ме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Не делай себе кумира и ни какого изображения того, что на небе вверху, что на земле внизу и что в водах ниже земли; не поклоняйся и не служи 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Не произноси имени Господа Бога твоего напрас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Помни день покоя, чтобы проводить его свято; шесть дней трудись и совершай в них все твои дела, а день седьмой — день покоя — да будет посвящен Господу Богу тво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79640" y="260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заповедей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89000"/>
            <a:ext cx="6624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Почитай отца твоего и матерь твою, чтобы тебе было хорошо и чтобы ты долго жил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Не убив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Не прелюбодейств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Не кр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Не л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Не завид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68360" y="5373720"/>
            <a:ext cx="83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16036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4437000"/>
            <a:ext cx="56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ди,любите друг друга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4913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Железо ржа съедает, а завист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ливый от зависти погиб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 ищи правды в други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оли её в тебе н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ру потакать – ч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мому воро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 свете всё найдёшь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оме отца и мате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силие яд для душ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072120" y="15001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завиду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кругленный прямоугольник 6"/>
          <p:cNvSpPr/>
          <p:nvPr/>
        </p:nvSpPr>
        <p:spPr>
          <a:xfrm>
            <a:off x="6072120" y="24289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к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6072120" y="33577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би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8"/>
          <p:cNvSpPr/>
          <p:nvPr/>
        </p:nvSpPr>
        <p:spPr>
          <a:xfrm>
            <a:off x="6072120" y="435780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л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9"/>
          <p:cNvSpPr/>
          <p:nvPr/>
        </p:nvSpPr>
        <p:spPr>
          <a:xfrm>
            <a:off x="6143760" y="535788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итай отца твоего и матерь тв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404640"/>
            <a:ext cx="7274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езентации  используются личные фотографии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Египет: монастырь Святой Екатерины), гора Моисея- фото с монастыря Св.Екатер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Кондукторо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КОУ «Лахденпох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9500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kaschepuzia.kaschenko.ru/index.php/%D0%A4%D0%B0%D0%B9%D0%BB:Matsa_skrijali.jpg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учебник из дер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94172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 Моисей,гора Синай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abc-people.com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6"/>
              </a:rPr>
              <a:t>sho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8"/>
              </a:rPr>
              <a:t>moses_prophet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365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из интерне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8T14:06:29Z</dcterms:modified>
  <cp:revision>29</cp:revision>
  <dc:subject/>
  <dc:title>Слайд 1</dc:title>
</cp:coreProperties>
</file>